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8F2-D56D-4135-B385-CEED61ED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669-0661-4818-9AF3-48216DD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F0B-5167-4561-9E66-8FFE9AD8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EA3-1574-42B6-9441-9C181524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9EE-5A07-4BAE-9D18-FAAE8DEE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5E5-C3C1-45A2-9639-23DEC896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A88-2E96-46AA-AB38-0C0EDF6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4F1-6A24-49BE-A1A6-12086E7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C04-8536-4AE2-96EB-42D01CEE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9CF-406A-4222-8B8B-C5F97DB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CF7-A347-4877-80A0-3302B2D1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458-5177-4363-85CF-A19C45B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629-07B6-4F91-9185-BBA304A89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0:24Z</dcterms:created>
  <dc:creator> </dc:creator>
  <dc:description/>
  <dc:language>en-US</dc:language>
  <cp:lastModifiedBy> </cp:lastModifiedBy>
  <dcterms:modified xsi:type="dcterms:W3CDTF">2009-03-09T17:40:30Z</dcterms:modified>
  <cp:revision>1</cp:revision>
  <dc:subject/>
  <dc:title>Slide 1</dc:title>
</cp:coreProperties>
</file>